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AAEF2-03EA-47C3-AA50-CC589335C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FB1E-771E-4102-AE49-5A3C1BDB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32DB-7476-4FBB-97D4-E81B596A2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16659-4B48-4954-8098-38DA922FA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93A51-0281-47E5-81E9-AB7B4AEC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97C7-82FB-4E31-AA42-2B3B5236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712A-3C84-4686-A261-E7AF40D4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97F18-B363-4B91-99DF-F936BE17C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9B8A-6D23-43D3-86B3-28E8BAD49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451B6-053C-4A25-882D-122BB994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8FAE-C199-4D61-96F0-D9081CF1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0060-EA4B-4399-9669-9313C15B8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73AF-395F-47A1-BB7C-9BC973D953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SPOR BİLİMLERİ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370640" y="522360"/>
            <a:ext cx="1454400" cy="1452600"/>
          </a:xfrm>
          <a:prstGeom prst="rect">
            <a:avLst/>
          </a:prstGeom>
          <a:ln w="0">
            <a:noFill/>
          </a:ln>
        </p:spPr>
      </p:pic>
      <p:sp>
        <p:nvSpPr>
          <p:cNvPr id="54" name="TextBox 1"/>
          <p:cNvSpPr/>
          <p:nvPr/>
        </p:nvSpPr>
        <p:spPr>
          <a:xfrm>
            <a:off x="-1700280" y="36576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5:30:38Z</dcterms:created>
  <dc:creator>Microsoft Office User</dc:creator>
  <dc:description/>
  <dc:language>en-US</dc:language>
  <cp:lastModifiedBy>Microsoft Office User</cp:lastModifiedBy>
  <dcterms:modified xsi:type="dcterms:W3CDTF">2018-05-14T07:32:35Z</dcterms:modified>
  <cp:revision>3</cp:revision>
  <dc:subject/>
  <dc:title>PowerPoint Presentation</dc:title>
</cp:coreProperties>
</file>